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S252 S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BB60F91-5E8C-4E85-B50D-248D94C79927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fld id="{00D48EB3-9DF8-495E-9CF9-6365852830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3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7EFB861-33A6-41B3-9002-68B038666108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991DB19-828D-4F69-86F7-00AF3ED7CE76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54AAD5C-6F80-40C0-A1D3-F892A6D18A1B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2F41000-5965-4900-A29F-BF2551529F4A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A955376-AE7A-4C77-B1AC-6E811056ADD9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156E1BA-E4F6-47A5-BCCC-3FBE8FFC1F82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25D724E-7B80-4CF7-83A9-94F3F76A22AA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FD1C63D-77D3-473B-95E4-FFC6A6D7D4E0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136E630-8352-4245-B956-775910B2C697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00E92A8-CA2F-4B91-A9BD-214886AB28A5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DD856D8-5A49-4312-93DC-7A72FA0DF79F}" type="slidenum">
              <a:rPr b="0" i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DAEFDD9-B7F6-4E49-BC6A-410EA6231D69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7CF1B10-E384-4EDA-A4AD-01B80318F7F4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527120" y="92376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CS252 S05</a:t>
            </a:r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AC4381D-7A7F-455A-B828-CF6BE8FB3222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CD5-B1BE-4A88-A312-CD2EE5EB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A1A-8E12-4B8E-A965-0790A40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F7D-BBF7-4D37-B4F7-046FC173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C94-E81D-47E3-A46E-5103DA78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171C-15BA-43D2-A9BE-CA86E295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2947-BF5F-4DF1-B55B-8C084B80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44BE-3407-4A4F-AA26-C5A27D2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32F-9642-4CA2-8F3C-A29BBA7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B65-7090-481B-91C7-EDF8F82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1D8-E908-4F12-BC80-6432439F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D498-0E89-48BC-928C-D41795F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D6F-5E6F-4B27-A0CF-790B3F7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259E-18FD-467B-B53E-BE46554E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0525-6591-4C06-A5E6-54523C0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1C3-F732-4CCC-85FF-650656B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0742-3473-4BF2-8480-DA97ED83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118B-207C-455D-870D-4EA49A1F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54CA-DCF6-492F-918A-615B39B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E8C7-C660-4AFF-9A4B-ACECD0D0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59D7-AE08-44AB-8A9A-DFC056F5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DD1C-63E0-4F74-A06B-4EBE6C04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4EFF-E4B5-445E-8229-61AE3EFD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F00-F52A-41C5-AE30-0958620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89D0-A3FA-444D-B565-3EEDE32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B7E0-1206-487C-939C-AD82CA3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466F-77B1-40D1-BC05-D3BCC4A5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65A5-0A2C-428A-B97A-D3C82BAD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28FD-4B72-435D-8FF3-BE37FD58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1E42-A23C-422A-812F-3A4752A2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D10B-67C0-4436-BDED-CDE74755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427-AB37-4FDB-AA50-43E33A4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5D1-8FE7-45C4-89FF-4D8F7077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F41-22B6-433B-846B-F67D38CF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CBC-BDE6-4794-89AF-3D6C912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51D-F8A7-4886-A780-0982C15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B5C-CFCF-49C3-AFC8-5F84CA4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37B-AC88-4615-8872-8A550C5F6285}" type="datetime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</a:rPr>
              <a:t>CSE351 Course Project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AC9-ABA5-4301-91AA-FD5F5DB2D2EA}" type="slidenum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BF31-3B42-45A8-932D-04C79749C690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E351 Course Project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EE02-115B-414C-AF47-4079A8371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D7F-5215-4DFC-8B38-66E23306D38B}" type="datetime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</a:rPr>
              <a:t>CSE351 Course Project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61D8-9FAB-4B5E-B48C-01F15E0182D6}" type="slidenum">
              <a:rPr b="0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an@cse.unl.ed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ndex.php5/Cse351:Fall_2011:Pre_Project_Lab#Download_the_Nios-II_Soft_CPU_to_the_FPGA_Platform" TargetMode="External"/><Relationship Id="rId2" Type="http://schemas.openxmlformats.org/officeDocument/2006/relationships/hyperlink" Target="http://cse.unl.edu/~dzhan/wiki/index.php5/Cse351:Fall_2011:Pre_Project_Lab#Create_a_Nios-II_C_Project" TargetMode="External"/><Relationship Id="rId3" Type="http://schemas.openxmlformats.org/officeDocument/2006/relationships/hyperlink" Target="http://cse.unl.edu/~dzhan/wiki/index.php5/Cse351:Fall_2011:Pre_Project_Lab#Build_the_Projec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ndex.php5/Cse351:Fall_2011:Pre_Project_Lab#Observe_the_FPGA_Platform_Output" TargetMode="External"/><Relationship Id="rId2" Type="http://schemas.openxmlformats.org/officeDocument/2006/relationships/hyperlink" Target="http://cse.unl.edu/~dzhan/wiki/index.php5/Cse351:Fall_2011:Pre_Project_Lab#Debug_the_Projec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oject_management" TargetMode="External"/><Relationship Id="rId2" Type="http://schemas.openxmlformats.org/officeDocument/2006/relationships/hyperlink" Target="http://code.google.com/hosting/createProjec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mages/Nios-II_Handbook.pdf" TargetMode="External"/><Relationship Id="rId2" Type="http://schemas.openxmlformats.org/officeDocument/2006/relationships/hyperlink" Target="http://cse.unl.edu/~dzhan/wiki/images/Instruction_Set_Reference_for_Nios-II_Soft_CPUs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66755201@N04/sets/72157627524789258/detai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altera.com/download/software/quartus-ii-we/11.0sp1" TargetMode="External"/><Relationship Id="rId2" Type="http://schemas.openxmlformats.org/officeDocument/2006/relationships/hyperlink" Target="http://www.virtualbox.org/wiki/Mac%20OS%20X%20build%20instruction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ltera.com/download/drivers/usb-blaster/dri-usb-blaster-xp.html" TargetMode="External"/><Relationship Id="rId2" Type="http://schemas.openxmlformats.org/officeDocument/2006/relationships/hyperlink" Target="http://www.altera.com/download/drivers/usb-blaster/dri-usb-blaster-vist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e.unl.edu/~dzhan/wiki/images/DE2_NIOS-II.zip" TargetMode="External"/><Relationship Id="rId2" Type="http://schemas.openxmlformats.org/officeDocument/2006/relationships/hyperlink" Target="http://cse.unl.edu/~dzhan/wiki/images/DE1_NIOS-II.zi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32b7"/>
                </a:solidFill>
                <a:latin typeface="Times New Roman"/>
                <a:ea typeface="宋体"/>
              </a:rPr>
              <a:t>CSE351 Course Project Tutorial</a:t>
            </a:r>
            <a:endParaRPr b="1" lang="en-US" sz="3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y Dongyuan Zh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dzhan@cse.unl.ed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FCE2-9AE5-492F-9A1B-CE11B9AEE702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DF61-7783-461B-9755-1E9FDCED6847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158920" y="1424160"/>
            <a:ext cx="4762440" cy="44668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4159080" y="3003480"/>
            <a:ext cx="1447920" cy="139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6" name="Rectangular Callout 8"/>
          <p:cNvSpPr/>
          <p:nvPr/>
        </p:nvSpPr>
        <p:spPr>
          <a:xfrm>
            <a:off x="6910560" y="2416320"/>
            <a:ext cx="1493640" cy="337680"/>
          </a:xfrm>
          <a:prstGeom prst="wedgeRectCallout">
            <a:avLst>
              <a:gd name="adj1" fmla="val -137611"/>
              <a:gd name="adj2" fmla="val 331148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FPGA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2143080" y="2319480"/>
            <a:ext cx="860400" cy="47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2828880" y="1185840"/>
            <a:ext cx="676440" cy="1535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9" name="Rectangular Callout 11"/>
          <p:cNvSpPr/>
          <p:nvPr/>
        </p:nvSpPr>
        <p:spPr>
          <a:xfrm>
            <a:off x="446040" y="2958840"/>
            <a:ext cx="1494000" cy="580680"/>
          </a:xfrm>
          <a:prstGeom prst="wedgeRectCallout">
            <a:avLst>
              <a:gd name="adj1" fmla="val 70041"/>
              <a:gd name="adj2" fmla="val -88537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Power Button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0" name="Rectangular Callout 12"/>
          <p:cNvSpPr/>
          <p:nvPr/>
        </p:nvSpPr>
        <p:spPr>
          <a:xfrm>
            <a:off x="420840" y="1303920"/>
            <a:ext cx="1495440" cy="580680"/>
          </a:xfrm>
          <a:prstGeom prst="wedgeRectCallout">
            <a:avLst>
              <a:gd name="adj1" fmla="val 110046"/>
              <a:gd name="adj2" fmla="val 18833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USB Blaster Port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Altera DE-1 Boa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1A3B-1123-4746-9C3D-92E14E134F19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F22-BB4A-4585-85DF-78DCF5B4BF8F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wnload the Nios-II Soft CPU to the FPGA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ndex.php5/Cse351:Fall_2011:Pre_Project_Lab#Download_the_Nios-II_Soft_CPU_to_the_FPGA_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eate a Nios-II C Pro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ndex.php5/Cse351:Fall_2011:Pre_Project_Lab#Create_a_Nios-II_C_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ild the Pro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3"/>
              </a:rPr>
              <a:t>http://cse.unl.edu/~dzhan/wiki/index.php5/Cse351:Fall_2011:Pre_Project_Lab#Build_the_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Ste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D0D-DB8E-4376-970D-794E410575A2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97C2-84C4-4AA7-B146-7BBBDB32F048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bserve the FPGA Platform Outpu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ndex.php5/Cse351:Fall_2011:Pre_Project_Lab#Observe_the_FPGA_Platform_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bug the Projec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ndex.php5/Cse351:Fall_2011:Pre_Project_Lab#Debug_the_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Ste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23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-Lab (by Sep. 2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 submission is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 (by Oct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sign and report need to be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 (by Nov. 1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sign and report need to be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I (by Dec. 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sign and report need to be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5AA-C396-4D2B-92B5-A1FEEF7BAB70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879B-A550-4D0A-AD31-F6E7968BAF08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Times New Roman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Milesto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llowing is the grading criteria with a total of 100 points for any projects. But different projects may carry different weights in your final grad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report: 5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rectness of the program: 4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ed source code comments and README: 1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ypically, all members in a team will get the same grade for a project, unless the team leader or other members report to the lab TA that someone contributes little to the project and he/she should get only a certain percentage (e.g., 90%) of the team’s grad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CBA0-7B38-480A-8DAB-D78BE629B21B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155B-F87B-4CAC-8536-71AB08D313D4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Grading Criter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as early as you ca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 good project management (e.g., risk anticip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en.wikipedia.org/wiki/Project_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o efficient team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e version control system to manage your sourc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VN/Mecurial/Git (on Windows/Un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ode.google.com/hosting/create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 active in discussing with the T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0383-DEA9-4D81-BDCF-2597250A3D01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BE97-6B66-49D2-98F3-D2F3BFF2676F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Some Suggestions for Your Succes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os-II Software Developer's Hand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mages/Nios-II_Handbook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ction Set Reference for Nios-II Soft C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mages/Instruction_Set_Reference_for_Nios-II_Soft_CPUs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 Abstraction Layer API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se.unl.edu/~dzhan/wiki/images/Hardware_Abstraction_Layer_API_Reference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CD4A-F521-4C24-A507-DC79D126200E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74FC-4BBC-4E46-B14F-2566CAA06EE0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Resour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Assembly in the C 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se.unl.edu/~dzhan/wiki/images/Using_Assembly_in_the_C_Source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 &amp; ASM in Nios-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cse.unl.edu/~dzhan/wiki/images/C%26ASM_in_Nios-II.pd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ltera Document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altera.com/literature/lit-index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ltera Development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alteraforum.com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F27-548D-4A28-80A6-FFB4B165B94F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D1B-96A8-4638-8EAC-B255FD00CE98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Resour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Enjoy Your Course Projects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9A5-39CD-4577-BBA3-F6BE9A64A16C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E8D-8137-48E5-904C-6635F5721CC1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Q &amp; 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Objec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hree projects will lead you to eventually create your own prototype OS on a bare-system FPGA bo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in genuine understanding of the OS kernel principles from hands-on experien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e efficient teamwork and effective project management skills that make your work splendi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9FD0-8423-4AAF-9F7A-7E25EDE8049C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Times New Roman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EFFE-7F3F-4B6F-98F0-07474F7C01C6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57A-39B0-44E7-B3B7-2E1656C8B2B0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E061-5374-430C-BC64-39E995CB8009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878040" y="1193760"/>
            <a:ext cx="7324560" cy="4927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Over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98040" y="1193400"/>
            <a:ext cx="7683480" cy="521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ne Lab + Three Projects (on a team basis, accounting for 40% of your final grad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-project L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%, by 09/2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to prepare you for the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%, by 10/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: to design a timer interrupt hand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, by 11/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: to devise multithreading and scheduling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 III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%, by 12/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: to provide a synchronization mechanism for the coordination among multiple thre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67E8-634D-4D7C-8E6F-E1722FA0569E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C60-2D4B-45BA-83F0-EA8F598D9B31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Task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 teams have been formed, with 2-3 members in each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www.flickr.com/photos/66755201@N04/sets/72157627524789258/detail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group should have a team leader who schedules and coordinates group events and submits your work to the hand-in syst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team will be provided ≥2 FPGA boards. You can use your personal computer or a Lab machine to manipulate the boards, as long as the required software is install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91C0-48C3-4221-921D-83C7A9A7BED9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6D67-FF60-4DAB-A58B-E4BC67E70683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Tea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ltera DE-2/DE-1 bo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artus-II Web Edition 11.0sp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also includ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ios-II v11.0 Software Build Tools for Eclip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s://www.altera.com/download/software/quartus-ii-we/11.0s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download registration requi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box (only for Mac us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www.virtualbox.org/wiki/Mac%20OS%20X%20build%20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D80-0373-443C-8603-82522F9D236F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0FA0-CDB1-4C40-A0DF-4F049389AA6C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Times New Roman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SB Blaster Dr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enables DE-2 to communicate with your 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install it can be found 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XP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www.altera.com/download/drivers/usb-blaster/dri-usb-blaster-xp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7/VISTA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www.altera.com/download/drivers/usb-blaster/dri-usb-blaster-vista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27FA-DFA2-4D8B-AE22-D3A41012F61C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CE91-2575-4ADD-B92E-D630FD891E95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os-II Soft-Core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essentially a VHDL/Verilog design that configures the FPGA to function as a CP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2 Version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1"/>
              </a:rPr>
              <a:t>http://cse.unl.edu/~dzhan/wiki/images/DE2_NIOS-II.z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1 Version: 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宋体"/>
                <a:hlinkClick r:id="rId2"/>
              </a:rPr>
              <a:t>http://cse.unl.edu/~dzhan/wiki/images/DE1_NIOS-II.z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F47E-82A5-4203-8642-4F530DCCEEAD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600-C5AD-4B19-A944-29C8AE30C92F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D46-6C6B-45CD-A04B-B28BB3C4172A}" type="datetime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07/29/26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  <a:ea typeface="宋体"/>
              </a:rPr>
              <a:t>CSE351 Course Project Tutorial</a:t>
            </a:r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B5BB-0B52-4544-9E03-92D1E70860D2}" type="slidenum">
              <a:rPr b="1" lang="en-US" sz="1400" spc="-1" strike="noStrike">
                <a:solidFill>
                  <a:srgbClr val="00ae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409760" y="1193760"/>
            <a:ext cx="6261120" cy="492768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262160" y="2048040"/>
            <a:ext cx="860400" cy="475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898880" y="3025800"/>
            <a:ext cx="1447920" cy="1393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1947960" y="880920"/>
            <a:ext cx="676080" cy="1535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7" name="Rectangular Callout 10"/>
          <p:cNvSpPr/>
          <p:nvPr/>
        </p:nvSpPr>
        <p:spPr>
          <a:xfrm>
            <a:off x="7650000" y="2438640"/>
            <a:ext cx="1494000" cy="337680"/>
          </a:xfrm>
          <a:prstGeom prst="wedgeRectCallout">
            <a:avLst>
              <a:gd name="adj1" fmla="val -137615"/>
              <a:gd name="adj2" fmla="val 331574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FPGA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8" name="Rectangular Callout 12"/>
          <p:cNvSpPr/>
          <p:nvPr/>
        </p:nvSpPr>
        <p:spPr>
          <a:xfrm>
            <a:off x="0" y="1271520"/>
            <a:ext cx="1494000" cy="580680"/>
          </a:xfrm>
          <a:prstGeom prst="wedgeRectCallout">
            <a:avLst>
              <a:gd name="adj1" fmla="val 40143"/>
              <a:gd name="adj2" fmla="val 98884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Power Button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9" name="Rectangular Callout 13"/>
          <p:cNvSpPr/>
          <p:nvPr/>
        </p:nvSpPr>
        <p:spPr>
          <a:xfrm>
            <a:off x="138240" y="30960"/>
            <a:ext cx="1495440" cy="580680"/>
          </a:xfrm>
          <a:prstGeom prst="wedgeRectCallout">
            <a:avLst>
              <a:gd name="adj1" fmla="val 71490"/>
              <a:gd name="adj2" fmla="val 191449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USB Blaster Port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1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Times New Roman"/>
                <a:ea typeface="宋体"/>
              </a:rPr>
              <a:t>Altera DE-2 Boa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Leonard951</dc:creator>
  <dc:description/>
  <dc:language>en-US</dc:language>
  <cp:lastModifiedBy>Leonard951</cp:lastModifiedBy>
  <cp:lastPrinted>1998-07-14T21:04:32Z</cp:lastPrinted>
  <dcterms:modified xsi:type="dcterms:W3CDTF">2011-09-14T19:17:17Z</dcterms:modified>
  <cp:revision>289</cp:revision>
  <dc:subject/>
  <dc:title>EECS 252 Graduate Computer Architecture   Lec 01 - Introduction</dc:title>
</cp:coreProperties>
</file>